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38E-D837-421C-8DCF-C4B62C79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DD5-BFB6-458F-ACF3-CD19814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635-8A4E-4465-BA99-CFD19460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B00-3944-43B9-9B6A-640CF82F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D16-A1FA-46A1-89C2-4BFC3D02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0A8-A91A-43F4-BB83-D23EC944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705-55A4-4066-ABFE-ADE02B96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CD1-81DF-462F-B2F0-68618B0B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A19-418E-4E56-A0FB-8254EBC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726-426C-4BE7-A57B-83B37668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909-75BB-4AED-83C9-A0A08EE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361-7A16-4F2F-B74B-65B36AD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9AED-DD43-4E74-A8E3-7D9464EBB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tion:  Short f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ic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ur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l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ment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 pixel is a single point in a graphic image.  All digital images are compos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ousands or even millions of pixels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"This icon is 32 </a:t>
            </a:r>
            <a:r>
              <a:rPr b="1" lang="en-US" sz="2400" spc="-1" strike="noStrike" u="sng">
                <a:solidFill>
                  <a:srgbClr val="898989"/>
                </a:solidFill>
                <a:uFillTx/>
                <a:latin typeface="Calibri"/>
              </a:rPr>
              <a:t>pixels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 wide by 32 pixels tall. It contains a total of 1024 pixels."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tekmom.com/buzzwords/zdicon.gif"/>
          <p:cNvPicPr/>
          <p:nvPr/>
        </p:nvPicPr>
        <p:blipFill>
          <a:blip r:embed="rId1"/>
          <a:stretch/>
        </p:blipFill>
        <p:spPr>
          <a:xfrm>
            <a:off x="6095880" y="2895480"/>
            <a:ext cx="12574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2"/>
          <a:stretch/>
        </p:blipFill>
        <p:spPr>
          <a:xfrm>
            <a:off x="-6480" y="85680"/>
            <a:ext cx="3060720" cy="12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pixels.jpg (36159 bytes)"/>
          <p:cNvPicPr/>
          <p:nvPr/>
        </p:nvPicPr>
        <p:blipFill>
          <a:blip r:embed="rId3"/>
          <a:stretch/>
        </p:blipFill>
        <p:spPr>
          <a:xfrm>
            <a:off x="380880" y="3429000"/>
            <a:ext cx="3495960" cy="1771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1066680" y="556272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Alamo in your Texas history movie maker project is blurry so in order to create a clearer sharper  picture, you increase the  number of pixels that are in the pict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8:47:33Z</dcterms:created>
  <dc:creator>RRISD</dc:creator>
  <dc:description/>
  <dc:language>en-US</dc:language>
  <cp:lastModifiedBy>RRISD</cp:lastModifiedBy>
  <dcterms:modified xsi:type="dcterms:W3CDTF">2009-03-12T18:47:56Z</dcterms:modified>
  <cp:revision>1</cp:revision>
  <dc:subject/>
  <dc:title>Definition:  Short for Picture Element, a pixel is a single point in a graphic image.  All digital images are composed of thousands or even millions of pixels. </dc:title>
</cp:coreProperties>
</file>